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3B0-B695-4A27-AF7B-E5C63B79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0BF-3737-44EC-ADF8-FDE479BA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5E4-4B16-4D24-83CD-B8C12586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309-E53E-43F0-A59A-81BE3C55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2A1-F4F7-4B37-A1AD-005AF764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99C-1D90-4F21-95F5-D2A40CD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9C1-6946-4CBD-9D54-F23FA23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E9F-D12D-42C5-B6F9-4F6EDE3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E7D-B21B-4488-9209-D96CB239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420-004F-4857-9E95-585516CC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0E7-CA9D-4175-A9A0-5198619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995-B4CC-4E58-AEC9-8388D1E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A06D-9566-4E47-904A-A89E0402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, Bruce</dc:creator>
  <dc:description/>
  <dc:language>en-US</dc:language>
  <cp:lastModifiedBy>Li, Bruce</cp:lastModifiedBy>
  <dcterms:modified xsi:type="dcterms:W3CDTF">2018-09-27T13:41:1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